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6.png" ContentType="image/png"/>
  <Override PartName="/ppt/media/image3.gif" ContentType="image/gif"/>
  <Override PartName="/ppt/media/image13.jpeg" ContentType="image/jpeg"/>
  <Override PartName="/ppt/media/image4.png" ContentType="image/png"/>
  <Override PartName="/ppt/media/image1.gif" ContentType="image/gif"/>
  <Override PartName="/ppt/media/image7.png" ContentType="image/png"/>
  <Override PartName="/ppt/media/image22.jpeg" ContentType="image/jpeg"/>
  <Override PartName="/ppt/media/image26.jpeg" ContentType="image/jpeg"/>
  <Override PartName="/ppt/media/image19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4.png" ContentType="image/pn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768-4787-48EF-8457-0AFFAD64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1CB-7A8F-4732-B059-83DB2B60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17C-DB43-4F23-9C82-0D58C306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667-3F18-4321-9033-7CCC7F18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0A6D-C1F7-4E62-90C5-D2D9E462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EA8E-C5D9-473E-A948-4AB90371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BCE-6803-4754-B934-9FB11360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2820-A604-4A95-BE0F-C21A92ED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D08-AB6E-42E8-AF6F-905267A8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C8F4-02A2-419B-B286-C3A51585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157A-E4EC-46BD-BBF6-0FACF614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2F34-E736-476D-A86A-FE713BFB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235160" indent="-285840">
              <a:spcBef>
                <a:spcPts val="649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54200" indent="-228600">
              <a:spcBef>
                <a:spcPts val="649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2073240" indent="-228600">
              <a:spcBef>
                <a:spcPts val="649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492280" indent="-228600">
              <a:spcBef>
                <a:spcPts val="649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492280" indent="-22860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492280" indent="-22860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dh086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4078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-30600" y="34920"/>
            <a:ext cx="30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隶书"/>
              </a:rPr>
              <a:t>第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隶书"/>
              </a:rPr>
              <a:t>7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隶书"/>
              </a:rPr>
              <a:t>章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隶书"/>
              </a:rPr>
              <a:t>SQL Server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隶书"/>
              </a:rPr>
              <a:t>代理服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6880" y="594360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391520" y="4572000"/>
            <a:ext cx="1143000" cy="6094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7391520" y="4114800"/>
            <a:ext cx="1752480" cy="533520"/>
          </a:xfrm>
          <a:custGeom>
            <a:avLst/>
            <a:gdLst>
              <a:gd name="textAreaLeft" fmla="*/ 438120 w 1752480"/>
              <a:gd name="textAreaRight" fmla="*/ 1314360 w 175248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>
            <a:off x="7010280" y="4876920"/>
            <a:ext cx="1752840" cy="533160"/>
          </a:xfrm>
          <a:custGeom>
            <a:avLst/>
            <a:gdLst>
              <a:gd name="textAreaLeft" fmla="*/ 438120 w 1752840"/>
              <a:gd name="textAreaRight" fmla="*/ 1314720 w 1752840"/>
              <a:gd name="textAreaTop" fmla="*/ 6660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firstslide"/>
          </p:cNvPr>
          <p:cNvSpPr/>
          <p:nvPr/>
        </p:nvSpPr>
        <p:spPr>
          <a:xfrm>
            <a:off x="6248520" y="5638680"/>
            <a:ext cx="1752480" cy="533520"/>
          </a:xfrm>
          <a:custGeom>
            <a:avLst/>
            <a:gdLst>
              <a:gd name="textAreaLeft" fmla="*/ 438120 w 1752480"/>
              <a:gd name="textAreaRight" fmla="*/ 1314360 w 175248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返回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gif298" descr=""/>
          <p:cNvPicPr/>
          <p:nvPr/>
        </p:nvPicPr>
        <p:blipFill>
          <a:blip r:embed="rId6"/>
          <a:stretch/>
        </p:blipFill>
        <p:spPr>
          <a:xfrm>
            <a:off x="0" y="6248520"/>
            <a:ext cx="914400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框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花4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花3" descr="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葉子" descr="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0CAA-127A-4E05-B38D-C5359A0C5E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25.xml"/><Relationship Id="rId7" Type="http://schemas.openxmlformats.org/officeDocument/2006/relationships/hyperlink" Target="file:///&#31532;6&#31456;%20%20%20SQL%20Server&#26435;&#38480;&#31649;&#29702;.ppt" TargetMode="External"/><Relationship Id="rId8" Type="http://schemas.openxmlformats.org/officeDocument/2006/relationships/image" Target="../media/image2.png"/><Relationship Id="rId9" Type="http://schemas.openxmlformats.org/officeDocument/2006/relationships/hyperlink" Target="file:///&#30446;&#24405;.ppt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file:///&#31532;8&#31456;%20%20%20%20SQL%20Server&#25968;&#25454;&#22797;&#21046;.ppt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章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SQL Server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代理服务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21520" y="1981080"/>
            <a:ext cx="385812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1" action="ppaction://hlinksldjump"/>
              </a:rPr>
              <a:t>7.1   </a:t>
            </a:r>
            <a:r>
              <a:rPr b="0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2" action="ppaction://hlinksldjump"/>
              </a:rPr>
              <a:t>SQL Server</a:t>
            </a:r>
            <a:r>
              <a:rPr b="0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3" action="ppaction://hlinksldjump"/>
              </a:rPr>
              <a:t>代理服务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4" action="ppaction://hlinksldjump"/>
              </a:rPr>
              <a:t>7.2   定义操作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5" action="ppaction://hlinksldjump"/>
              </a:rPr>
              <a:t>7.3   作业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66"/>
                </a:solidFill>
                <a:uFillTx/>
                <a:latin typeface="Times New Roman"/>
                <a:hlinkClick r:id="rId6" action="ppaction://hlinksldjump"/>
              </a:rPr>
              <a:t>7.4   警报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7"/>
          </p:cNvPr>
          <p:cNvSpPr/>
          <p:nvPr/>
        </p:nvSpPr>
        <p:spPr>
          <a:xfrm>
            <a:off x="7391520" y="4114800"/>
            <a:ext cx="1752480" cy="533520"/>
          </a:xfrm>
          <a:custGeom>
            <a:avLst/>
            <a:gdLst>
              <a:gd name="textAreaLeft" fmla="*/ 438120 w 1752480"/>
              <a:gd name="textAreaRight" fmla="*/ 1314360 w 175248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上一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9"/>
          </p:cNvPr>
          <p:cNvSpPr/>
          <p:nvPr/>
        </p:nvSpPr>
        <p:spPr>
          <a:xfrm>
            <a:off x="6248520" y="5638680"/>
            <a:ext cx="1752480" cy="533520"/>
          </a:xfrm>
          <a:custGeom>
            <a:avLst/>
            <a:gdLst>
              <a:gd name="textAreaLeft" fmla="*/ 438120 w 1752480"/>
              <a:gd name="textAreaRight" fmla="*/ 1314360 w 175248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返回目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9564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6.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914400"/>
            <a:ext cx="4260960" cy="4343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38360" y="5486400"/>
            <a:ext cx="29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7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新建操作员属性—通知页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3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业管理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一般来说，如果要创建作业，必须执行以下三个步骤：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定义作业步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如果该作业不是用户指定执行，创建作业执行的调度时间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通知操作员作业的状态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7.3.1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作业步定义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一个作业可以含有一步或多步，有不同定义作业的方法：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669960" algn="just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Transact-SQ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669960" algn="just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执行一个可执行程序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669960" algn="just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激活一个程序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5867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7.3.2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创建作业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553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企业管理器创建作业，步骤如下：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打开企业管理器，展开指定的服务器并打开管理文件夹，然后打开已经启动的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，用右键单击作业图标，从快捷菜单中选择新建作业选项，则出现新建作业属性对话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8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4332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6.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1523880"/>
            <a:ext cx="5786280" cy="2925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68280" y="487692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8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作业属性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6629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每个作业必须有一个或者多个步骤，所以，除了定义作业属性外，在保存作业前，还至少要定义一个作业步骤；要定义作业步骤，选择新建作业属性对话框中的步骤页框，然后在步骤页框中单击新建按钮，则出现新建作业步骤对话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9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83356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6.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1143000"/>
            <a:ext cx="5548320" cy="3724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868120" y="5181480"/>
            <a:ext cx="27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9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新建作业步骤—常规页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选择新建作业步骤对话框中的高级页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6.10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1981080"/>
            <a:ext cx="5257800" cy="3505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62840" y="5638680"/>
            <a:ext cx="28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10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新建作业步骤—高级页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类型下拉框含有的选项及含义如下：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ActiveX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脚本：运行一个脚本语言程序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操作系统命令：执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.exe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.cmd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.ba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文件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复制分发服务器：定义复制分发命令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复制合并：定义复制合并命令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复制快照：定义复制快照命令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Transact-SQ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脚本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TSQ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：执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TSQ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语句命令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7.3.3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创建作业时间表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创建的作业可以按照需要指定执行，或者使用一个或多个时间表执行。一个调度的作业在特定的时间执行，或者在定期的时间执行。每个作业可以有多个时间表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代理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是一个任务规划器和警报管理器，在实际应用时，可以将那些周期性的工作定义成一个任务，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的帮助下自动执行；在自动执行时，若出现故障，则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自动通知操作员，操作员获得通知后及时排除故障。如此在任务、操作员、警报三者之间既相互独立，又相互联系、相互补充，构成了自动完成某些任务的有机整体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企业管理器为现有的作业创建时间表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打开管理文件夹，单击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并单击作业；然后，用右键单击右边窗格中的作业，从快捷菜单中选择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则出现作业属性对话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8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单击调度标签，然后单击新建调度按钮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1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单击更改按钮，打开编辑反复出现的作业调度对话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87172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6.1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19320" y="1143000"/>
            <a:ext cx="6019560" cy="3406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38240" y="49528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1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作业调度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89548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6.1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990720"/>
            <a:ext cx="5410080" cy="3949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551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2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编辑反复出现的作业调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7.3.4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业执行状态通知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172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905120"/>
            <a:ext cx="7331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企业管理器为现有的作业设置作业执行状态通知，用右键单击指定的作业，从快捷菜单中选择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选项，出现作业属性对话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8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，然后选择通知页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1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 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9548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4332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6.1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90720" y="1523880"/>
            <a:ext cx="6091200" cy="3079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68800" y="495288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3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作业属性—通知页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7.4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警报管理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创建事件警报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展开启动的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代理，用右键单击警报图标，从快捷菜单中选择新建警报选项，从中选择常规页框，如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7-1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选中错误号单选按钮，然后单击右边的方框按钮，则出现管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消息对话框，选择搜索页框，如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7-1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选择消息页框，然后单击新建按钮，出现新建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消息对话框，如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7-16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选择响应页框，如图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7-17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337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6.1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914400"/>
            <a:ext cx="4572000" cy="441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630160" y="5486400"/>
            <a:ext cx="28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14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新建警报属性—常规页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9092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6.1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143000" y="1066680"/>
            <a:ext cx="5791320" cy="37162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143000" y="5029200"/>
            <a:ext cx="580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15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管理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消息—搜索页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9560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6.1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14400" y="1676520"/>
            <a:ext cx="6400800" cy="2976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056680" y="5002200"/>
            <a:ext cx="35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16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新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消息对话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创建性能警报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性能警报是指当某一性能指数超过预定义的性能时，性能警报就会被触发，通过在性能警报中定义的电子邮件或者寻呼，就可以把响应的警报信息通知给管理员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性能警报的创建与事件警报的创建类似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7.1   SQL Server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代理服务配置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服务配置步骤 ：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打开企业管理器，展开指定的服务器并打开管理文件夹，启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。用右键单击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图标，从快捷菜单中选择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属性）选项，则出现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属性对话框，选择常规页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Monotype Corsiva"/>
              </a:rPr>
              <a:t>Thank you very much!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0420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114800" cy="3194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62120" y="1523880"/>
            <a:ext cx="1033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谢谢您 的光临，再见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/>
          </p:cNvPr>
          <p:cNvSpPr/>
          <p:nvPr/>
        </p:nvSpPr>
        <p:spPr>
          <a:xfrm>
            <a:off x="7010280" y="4876920"/>
            <a:ext cx="1752840" cy="533160"/>
          </a:xfrm>
          <a:custGeom>
            <a:avLst/>
            <a:gdLst>
              <a:gd name="textAreaLeft" fmla="*/ 438120 w 1752840"/>
              <a:gd name="textAreaRight" fmla="*/ 1314720 w 1752840"/>
              <a:gd name="textAreaTop" fmla="*/ 6660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下一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3380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6.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76520" y="1600200"/>
            <a:ext cx="3732120" cy="3843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41160" y="5638680"/>
            <a:ext cx="38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1    SQL Server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理属性—常规页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1 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选择常规页框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7391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选择高级页框，如下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848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6.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81080" y="1752480"/>
            <a:ext cx="38750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选择警报系统页框，如下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848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6.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057400" y="1752480"/>
            <a:ext cx="402444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选择作业系统页框，如下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3848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6.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0" y="1828800"/>
            <a:ext cx="38862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选择连接页框，如下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3848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6.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86000" y="1752480"/>
            <a:ext cx="39211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定义操作员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企业管理器可以创建一个操作员，其具体步骤如下：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打开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企业管理器，展开指定的服务器并打开管理文件夹，然后选中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图标，如果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代理没有启动，则用右键单击后选择启动选项启动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选择通知页框，如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7-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所示 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0T00:17:33Z</dcterms:created>
  <dc:creator>haier</dc:creator>
  <dc:description/>
  <dc:language>en-US</dc:language>
  <cp:lastModifiedBy>lcb</cp:lastModifiedBy>
  <dcterms:modified xsi:type="dcterms:W3CDTF">2001-08-19T14:45:01Z</dcterms:modified>
  <cp:revision>39</cp:revision>
  <dc:subject/>
  <dc:title>第7章   SQL Server代理服务 </dc:title>
</cp:coreProperties>
</file>